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4DB81-F6B3-421C-83B9-06A8B6456B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816EE-29A6-4DBB-926E-014F7FD489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CC86A-0B9E-4A9C-8BF2-812A9849E5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11367-3333-49E4-8219-FF042B2957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D22EE-459A-4C8B-9DD5-4BF78F5401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75074-8149-4771-8684-521D783D55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DB086-E10F-4990-8F38-5BDDF5FFDA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1B031-AE5F-4072-9C21-F6CCA43C4F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78011-59A7-4D2C-B9DF-0F60EB1A5A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4CBC5-4C17-44AB-A21E-83CFC73D46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F013-222F-4AC0-9E25-D5DD7B586B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8E348-EDA9-4485-8A1B-47DBF6FF45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CCED8-3E7B-40FD-A209-83FC1A59A7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EDC7D-7A74-4B44-A42E-9861A82289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B5B74-939B-428F-9448-447877DDBA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68E95-599B-49EF-ADCF-630D572FDC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36FA2-20FA-44DA-88A3-FC6928F0EB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19ECE-2FBD-48B7-B40E-6CAD8560F2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65E7-E146-4CF1-A049-503B7C2B4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BE98-2822-4177-B26A-740ABBEE3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BA58-3832-4630-8166-7D46FA0B9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A2FB-9558-49F0-B857-1EFF44C34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AF38-F1A7-45D6-AAAD-9E529058D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FC69-A16A-466B-A4AF-7BA894E39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29C6-06A6-46DE-BC72-7B024DDEB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70F4-B9D2-47CD-9D5E-508EC8C7A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FE7F-7D6A-43FF-BAE1-73F12D2A3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7651-91CE-482F-B972-397B18C4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CDF0-C70E-4204-81A0-9BA99398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BB38-2370-4E45-B51D-984E9B9A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B898B-2A08-4CD4-8676-E556891486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10666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500" spc="-1" strike="noStrike">
                <a:solidFill>
                  <a:srgbClr val="000000"/>
                </a:solidFill>
                <a:latin typeface="Calibri"/>
              </a:rPr>
              <a:t>Solfege 1.7 Ti - Ti</a:t>
            </a:r>
            <a:endParaRPr b="0" lang="en-US" sz="1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Preview image of file"/>
          <p:cNvPicPr/>
          <p:nvPr/>
        </p:nvPicPr>
        <p:blipFill>
          <a:blip r:embed="rId1"/>
          <a:stretch/>
        </p:blipFill>
        <p:spPr>
          <a:xfrm>
            <a:off x="2286000" y="533520"/>
            <a:ext cx="4343400" cy="43495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alibri"/>
              </a:rPr>
              <a:t>Ti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High Ti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897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Preview image of file"/>
          <p:cNvPicPr/>
          <p:nvPr/>
        </p:nvPicPr>
        <p:blipFill>
          <a:blip r:embed="rId1"/>
          <a:stretch/>
        </p:blipFill>
        <p:spPr>
          <a:xfrm>
            <a:off x="2286000" y="533520"/>
            <a:ext cx="4343400" cy="43495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alibri"/>
              </a:rPr>
              <a:t>Ti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High Ti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897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Preview image of file"/>
          <p:cNvPicPr/>
          <p:nvPr/>
        </p:nvPicPr>
        <p:blipFill>
          <a:blip r:embed="rId1"/>
          <a:stretch/>
        </p:blipFill>
        <p:spPr>
          <a:xfrm>
            <a:off x="2895480" y="380880"/>
            <a:ext cx="4260960" cy="42674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alibri"/>
              </a:rPr>
              <a:t>La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La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2019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Preview image of file"/>
          <p:cNvPicPr/>
          <p:nvPr/>
        </p:nvPicPr>
        <p:blipFill>
          <a:blip r:embed="rId1"/>
          <a:stretch/>
        </p:blipFill>
        <p:spPr>
          <a:xfrm>
            <a:off x="2438280" y="228600"/>
            <a:ext cx="4114800" cy="41212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alibri"/>
              </a:rPr>
              <a:t>Sol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Sol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2043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alibri"/>
              </a:rPr>
              <a:t>Fa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5" descr="Preview image of file"/>
          <p:cNvPicPr/>
          <p:nvPr/>
        </p:nvPicPr>
        <p:blipFill>
          <a:blip r:embed="rId1"/>
          <a:stretch/>
        </p:blipFill>
        <p:spPr>
          <a:xfrm>
            <a:off x="2590920" y="0"/>
            <a:ext cx="4343400" cy="4321080"/>
          </a:xfrm>
          <a:prstGeom prst="rect">
            <a:avLst/>
          </a:prstGeom>
          <a:ln w="0">
            <a:noFill/>
          </a:ln>
        </p:spPr>
      </p:pic>
      <p:pic>
        <p:nvPicPr>
          <p:cNvPr id="85" name="Fa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956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C:\Users\Lee\Documents\Baby education resources\Music\solfege Mi image.gif"/>
          <p:cNvPicPr/>
          <p:nvPr/>
        </p:nvPicPr>
        <p:blipFill>
          <a:blip r:embed="rId1"/>
          <a:stretch/>
        </p:blipFill>
        <p:spPr>
          <a:xfrm>
            <a:off x="2209680" y="228600"/>
            <a:ext cx="4419720" cy="44197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alibri"/>
              </a:rPr>
              <a:t>Mi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Mi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2015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Preview image of file"/>
          <p:cNvPicPr/>
          <p:nvPr/>
        </p:nvPicPr>
        <p:blipFill>
          <a:blip r:embed="rId1"/>
          <a:stretch/>
        </p:blipFill>
        <p:spPr>
          <a:xfrm>
            <a:off x="2286000" y="228600"/>
            <a:ext cx="4267080" cy="42670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alibri"/>
              </a:rPr>
              <a:t>Re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Re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2015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Preview image of file"/>
          <p:cNvPicPr/>
          <p:nvPr/>
        </p:nvPicPr>
        <p:blipFill>
          <a:blip r:embed="rId1"/>
          <a:stretch/>
        </p:blipFill>
        <p:spPr>
          <a:xfrm>
            <a:off x="1905120" y="0"/>
            <a:ext cx="5105160" cy="51688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alibri"/>
              </a:rPr>
              <a:t>Do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Do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2019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Preview image of file"/>
          <p:cNvPicPr/>
          <p:nvPr/>
        </p:nvPicPr>
        <p:blipFill>
          <a:blip r:embed="rId1"/>
          <a:stretch/>
        </p:blipFill>
        <p:spPr>
          <a:xfrm>
            <a:off x="2286000" y="533520"/>
            <a:ext cx="4343400" cy="43495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alibri"/>
              </a:rPr>
              <a:t>Ti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Ti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2019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0" y="1523880"/>
            <a:ext cx="907884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Preview image of file"/>
          <p:cNvPicPr/>
          <p:nvPr/>
        </p:nvPicPr>
        <p:blipFill>
          <a:blip r:embed="rId1"/>
          <a:stretch/>
        </p:blipFill>
        <p:spPr>
          <a:xfrm>
            <a:off x="2286000" y="533520"/>
            <a:ext cx="4343400" cy="43495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alibri"/>
              </a:rPr>
              <a:t>Ti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Ti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19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Preview image of file"/>
          <p:cNvPicPr/>
          <p:nvPr/>
        </p:nvPicPr>
        <p:blipFill>
          <a:blip r:embed="rId1"/>
          <a:stretch/>
        </p:blipFill>
        <p:spPr>
          <a:xfrm>
            <a:off x="1905120" y="0"/>
            <a:ext cx="5105160" cy="51688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alibri"/>
              </a:rPr>
              <a:t>Do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Do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019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Preview image of file"/>
          <p:cNvPicPr/>
          <p:nvPr/>
        </p:nvPicPr>
        <p:blipFill>
          <a:blip r:embed="rId1"/>
          <a:stretch/>
        </p:blipFill>
        <p:spPr>
          <a:xfrm>
            <a:off x="2286000" y="228600"/>
            <a:ext cx="4267080" cy="42670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alibri"/>
              </a:rPr>
              <a:t>Re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Re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015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Users\Lee\Documents\Baby education resources\Music\solfege Mi image.gif"/>
          <p:cNvPicPr/>
          <p:nvPr/>
        </p:nvPicPr>
        <p:blipFill>
          <a:blip r:embed="rId1"/>
          <a:stretch/>
        </p:blipFill>
        <p:spPr>
          <a:xfrm>
            <a:off x="2209680" y="228600"/>
            <a:ext cx="4419720" cy="44197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alibri"/>
              </a:rPr>
              <a:t>Mi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Mi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015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alibri"/>
              </a:rPr>
              <a:t>Fa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" descr="Preview image of file"/>
          <p:cNvPicPr/>
          <p:nvPr/>
        </p:nvPicPr>
        <p:blipFill>
          <a:blip r:embed="rId1"/>
          <a:stretch/>
        </p:blipFill>
        <p:spPr>
          <a:xfrm>
            <a:off x="2590920" y="0"/>
            <a:ext cx="4343400" cy="4321080"/>
          </a:xfrm>
          <a:prstGeom prst="rect">
            <a:avLst/>
          </a:prstGeom>
          <a:ln w="0">
            <a:noFill/>
          </a:ln>
        </p:spPr>
      </p:pic>
      <p:pic>
        <p:nvPicPr>
          <p:cNvPr id="64" name="Fa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956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Preview image of file"/>
          <p:cNvPicPr/>
          <p:nvPr/>
        </p:nvPicPr>
        <p:blipFill>
          <a:blip r:embed="rId1"/>
          <a:stretch/>
        </p:blipFill>
        <p:spPr>
          <a:xfrm>
            <a:off x="2438280" y="228600"/>
            <a:ext cx="4114800" cy="41212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alibri"/>
              </a:rPr>
              <a:t>Sol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Sol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043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Preview image of file"/>
          <p:cNvPicPr/>
          <p:nvPr/>
        </p:nvPicPr>
        <p:blipFill>
          <a:blip r:embed="rId1"/>
          <a:stretch/>
        </p:blipFill>
        <p:spPr>
          <a:xfrm>
            <a:off x="2895480" y="380880"/>
            <a:ext cx="4260960" cy="42674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alibri"/>
              </a:rPr>
              <a:t>La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La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019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0:09:54Z</dcterms:created>
  <dc:creator>halo</dc:creator>
  <dc:description/>
  <dc:language>en-US</dc:language>
  <cp:lastModifiedBy>Lee</cp:lastModifiedBy>
  <dcterms:modified xsi:type="dcterms:W3CDTF">2012-04-22T05:29:30Z</dcterms:modified>
  <cp:revision>121</cp:revision>
  <dc:subject/>
  <dc:title>Do</dc:title>
</cp:coreProperties>
</file>