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ED1C-3F8E-4664-A451-33F8B293A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DAF3-32AA-4A92-A423-0D4765C3B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575-E617-4B22-9B1A-DDE08005A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77F4-498B-4160-B029-104E450D2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8508-9C80-4251-8499-9CA20EBA2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74EE-E582-46B8-A27C-538DE7230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F071-43C1-428D-B176-0B5706CD0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373-C135-4C9E-BDDA-2EC936D2F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CD6B-E407-44D0-B01C-E474F51AC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F7FA-8575-411B-BDC9-AE10B255D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BD9E-E19F-436D-8CBF-9C72F9E74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EE38-2B76-412A-BCD3-AC7D68658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ABAD-89E4-45D9-82E8-09AD56BF7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FEB-FB0F-4C35-A29A-830F8782F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39F2-2206-4B32-9423-6A982048B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8AD7-21E5-42EF-96AA-4D6BB3E45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6A90-CA3F-4E50-8F57-574AEF43B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512B-7534-4A46-8234-5458F64E3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C32-7FAB-4F81-A401-12076A8A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26D-2AA6-4F96-8D38-9095DE19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6FD-7E38-469C-B355-E87D693C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792-C782-405F-9789-3D55EBC0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ADE-CFE0-4237-98B3-F49BCC98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4B3-E6B8-4A8A-834C-9E264B86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B3D-E9A9-4D78-BC9F-7DBC685F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2F4-96CA-4A39-BBAF-6D208C4D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CA5-B230-4F18-9671-7EA00D24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605-417C-4B64-A392-596EDE61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FAC-71C6-4D51-9E2C-B62CFC04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271-A1BE-4F67-8AFA-CDADBCAF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EF4-BEA7-4048-AE65-C0C8A7529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Solfege 1.6 La - La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High 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9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High 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9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S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82" name="F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M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2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2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D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8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T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3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3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D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8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2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M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2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67" name="F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S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4-22T05:13:19Z</dcterms:modified>
  <cp:revision>146</cp:revision>
  <dc:subject/>
  <dc:title>Do</dc:title>
</cp:coreProperties>
</file>