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7D88-7FAD-4C15-BD93-844CB78AA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6A02-1C4A-41F7-9D9E-FAA6BAC73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4819-A5FC-43A2-A613-A31CF547A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3476-BC9C-4AEA-A26A-74B8790F3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C090-6A69-4ADC-9F4C-4EF3424F3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6DF1-B367-4D23-ABEB-DC76EE6E9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68FA-83A8-47BD-BD7D-8E351E057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0ABE-8C84-4C41-8D86-9262FB73B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43FE-56E2-41F0-AF0C-F60158B06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A7E6-A7B8-4D13-B730-C72733608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136C-31E2-42BF-ACA2-A45FA54FC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48D6-DFDE-48FE-9094-8B6F48B5E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C700-9F97-4DBF-8E92-220F07C84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BAB2-6D03-49BA-B702-8AA93C906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E90A-664F-499C-B2FE-FDA17E615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DFBD-1EF6-4036-8135-AA932CF4C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1704-8A96-42F9-AEE1-7980C5C80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6C5D-D97D-4CE5-B3B6-DCF3E5005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4DB-3562-480A-853F-DCF93241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75F-A855-49A3-BFED-2654FBEA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322-FB06-4C7D-B198-E5E79715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98B-5331-4EE9-B23A-F1DC2E83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591-558B-4969-8A09-6DA2969D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2A2-4F9E-48C8-9385-B824353F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DB7-102A-4722-8F82-BB60DC2E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4D0-C7AB-49DB-841A-094944F8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2A7-EE86-4660-AD34-E7A0EDDD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876-ABF7-4181-8B73-026A2FAC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DC2-C712-4AFE-A554-81FD115C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228-E76E-490A-B22A-C064721D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2D3A-FF59-448A-B75A-340916176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Solfege 1.5 Sol - Sol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High sol.wav" descr=""/>
          <p:cNvPicPr/>
          <p:nvPr/>
        </p:nvPicPr>
        <p:blipFill>
          <a:blip r:embed="rId2"/>
          <a:stretch/>
        </p:blipFill>
        <p:spPr>
          <a:xfrm>
            <a:off x="-4572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4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High sol.wav" descr=""/>
          <p:cNvPicPr/>
          <p:nvPr/>
        </p:nvPicPr>
        <p:blipFill>
          <a:blip r:embed="rId2"/>
          <a:stretch/>
        </p:blipFill>
        <p:spPr>
          <a:xfrm>
            <a:off x="-4572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4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79" name="Fa.wav" descr=""/>
          <p:cNvPicPr/>
          <p:nvPr/>
        </p:nvPicPr>
        <p:blipFill>
          <a:blip r:embed="rId2"/>
          <a:stretch/>
        </p:blipFill>
        <p:spPr>
          <a:xfrm>
            <a:off x="-4572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4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Mi.wav" descr=""/>
          <p:cNvPicPr/>
          <p:nvPr/>
        </p:nvPicPr>
        <p:blipFill>
          <a:blip r:embed="rId2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1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Re.wav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Do.wav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2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Ti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7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la.wav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4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Sol.wav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1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Sol.wav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la.wav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4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i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7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o.wav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2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.wav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Mi.wav" descr=""/>
          <p:cNvPicPr/>
          <p:nvPr/>
        </p:nvPicPr>
        <p:blipFill>
          <a:blip r:embed="rId2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1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70" name="Fa.wav" descr=""/>
          <p:cNvPicPr/>
          <p:nvPr/>
        </p:nvPicPr>
        <p:blipFill>
          <a:blip r:embed="rId2"/>
          <a:stretch/>
        </p:blipFill>
        <p:spPr>
          <a:xfrm>
            <a:off x="-4572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4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3-03T20:47:20Z</dcterms:modified>
  <cp:revision>137</cp:revision>
  <dc:subject/>
  <dc:title>Do</dc:title>
</cp:coreProperties>
</file>