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B66F-BAB8-46CB-B63E-5C2A12783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42F5-1918-4266-8FB3-32561C21F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0362-48BA-46AE-B6B6-D449A715A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6AAE-3341-4A70-8ABD-299C2E606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FAFC-86E9-4A70-92C4-37EAF3CC3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085-A956-40AA-A066-7ABD95A36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6D07-FA80-48D2-A490-C9088F1EB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1905-3822-4FD5-8D8A-E5FFB81C8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1AAB-6447-488F-AA3A-400A5DB5C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2ACA-E31E-4C64-A557-6F756FADF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72E6-F1BC-40F8-816C-DE121B427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6F83-8ED3-4F6B-A94A-4F7FE7A01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E7A3-0D5E-449F-A663-2CF394226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5170-BD87-49E2-BB64-8B5FB4F4F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2A8D-6CF6-4568-92C4-9B3DD2797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E6C4-E20A-4EC6-BC9B-C5FADBFA0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15C1-C5DE-4FC9-96A2-E06EA7FEC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57D4-2622-439B-8576-451173BC7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610-BDC7-4917-AD9F-8686A966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282-74C8-4702-91D5-FEE4383C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140-B1FC-41D4-9C65-7FDDFE41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1D0-F988-4434-AF76-ABD7C088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483-64AD-408C-9AB8-839B16A9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F58-64CD-464A-8F51-D2076580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B43-83C1-4D50-86D1-CD05967E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C13-3F1B-4721-8E01-C5E0D69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0AD-6F52-4709-8B4B-531EC009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4AE-20DD-4226-8558-B1351B6B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965-8479-4BED-9A30-42C387B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3F3-43F1-441D-985F-05FED159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90CE-DA4B-4E7A-A96C-88A16C4DF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Solfege 1.4 Fa - Fa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73" name="high fa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6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76" name="high fa_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6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mi_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1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re_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6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do_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93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ti_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11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la_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3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sol_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24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97" name="fa_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88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52" name="fa_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ol_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la_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3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i_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1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do_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3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re_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6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mi_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1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1-31T09:49:40Z</dcterms:modified>
  <cp:revision>133</cp:revision>
  <dc:subject/>
  <dc:title>Do</dc:title>
</cp:coreProperties>
</file>