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D7D8-4D9C-4BF5-94AB-B54175E96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3C39-7657-4781-BF2C-E7C444F74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9B73-C927-4DC4-B748-DA7A6711A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1694-E1A8-41D0-A686-F5DEFBFCE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F657-55A8-45E1-A132-024DA0B1D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B61B-FADE-4341-882B-19D1FEEA5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B34E-D852-47AB-8E1F-15674A7A5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2D19-5286-456E-8CDC-C9B9BF56C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DD13-8C9C-4EF1-95CF-5E6157C0F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4B8B-3F2E-4E33-AD5A-47EE82954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2726-2B3D-441C-8C61-6821CF892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C400-3434-4ADD-99EF-05CC2A103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0362-54B4-4EBF-9D7C-C9D95337D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218A-6C8F-4936-89AF-276E37DD4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F302-B2FA-430A-AB46-A34B6BE57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79E2-AD44-425A-B2C9-169C9C6D4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B83D-EB00-4A92-95AC-425E1A890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B451-9D83-43EE-BDE2-71162AA6E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81F-80B3-4EB3-8D53-0A7C6619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A96-CEEC-435E-B559-AF64D73D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5E8E-931A-4AB9-A835-9CDC580A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145-EC1B-4F1B-9FE5-E629D957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6E8-6590-4E00-B346-CD9E6037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B29-B1E0-460D-8933-86AD209A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40B-F88E-4318-BE9B-690DD68D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4B7-9A4F-48B5-A10B-E5E5CF4E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843-58BA-4BBA-932C-74F9A4E1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D27-0CFF-4732-B8FB-6AA95EC0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539-8D17-4905-AD8A-66079C33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25A-388F-43CB-B019-E93F764A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38F5-BF2F-4D68-AF5C-B969EB15E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Calibri"/>
              </a:rPr>
              <a:t>Solfege 1.3 Mi- Mi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High Mi_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90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High Mi_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0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Music Alphabet Re_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37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Preview image of file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5168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Music Alphabet Do_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37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533520"/>
            <a:ext cx="4343400" cy="4349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Music Alphabet Ti_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3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Music Alphabet La_3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88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Music Alphabet Sol_6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14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Preview image of file"/>
          <p:cNvPicPr/>
          <p:nvPr/>
        </p:nvPicPr>
        <p:blipFill>
          <a:blip r:embed="rId1"/>
          <a:stretch/>
        </p:blipFill>
        <p:spPr>
          <a:xfrm>
            <a:off x="2590920" y="0"/>
            <a:ext cx="4343400" cy="4321080"/>
          </a:xfrm>
          <a:prstGeom prst="rect">
            <a:avLst/>
          </a:prstGeom>
          <a:ln w="0">
            <a:noFill/>
          </a:ln>
        </p:spPr>
      </p:pic>
      <p:pic>
        <p:nvPicPr>
          <p:cNvPr id="94" name="Music Alphabet Fa_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72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Music Alphabet Mi_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1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Music Alphabet Mi_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Preview image of file"/>
          <p:cNvPicPr/>
          <p:nvPr/>
        </p:nvPicPr>
        <p:blipFill>
          <a:blip r:embed="rId1"/>
          <a:stretch/>
        </p:blipFill>
        <p:spPr>
          <a:xfrm>
            <a:off x="2590920" y="0"/>
            <a:ext cx="4343400" cy="4321080"/>
          </a:xfrm>
          <a:prstGeom prst="rect">
            <a:avLst/>
          </a:prstGeom>
          <a:ln w="0">
            <a:noFill/>
          </a:ln>
        </p:spPr>
      </p:pic>
      <p:pic>
        <p:nvPicPr>
          <p:cNvPr id="55" name="Music Alphabet Fa_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2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Music Alphabet Sol_6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43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Music Alphabet La_3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8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533520"/>
            <a:ext cx="4343400" cy="4349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Music Alphabet Ti_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3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Preview image of file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5168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Music Alphabet Do_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3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Music Alphabet Re_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3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1-31T09:34:27Z</dcterms:modified>
  <cp:revision>129</cp:revision>
  <dc:subject/>
  <dc:title>Do</dc:title>
</cp:coreProperties>
</file>