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91A9-C7AD-4E30-9798-6E2C10487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12D0-5E8C-4159-A617-AE62973BE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4A19-6F2E-431C-8E40-B517EFE66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0DE6-B888-4223-99BA-471826F1A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84A8-1453-4437-A778-C2C939FE4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6359-CBDF-47B5-898C-B6F1CB41F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B8E2-24CF-40C3-8355-EFE464A28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DE4E-CD39-499F-90E6-D652B4512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F3B7-F271-4C9B-9D1C-8575E309F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A65D-AA62-4970-BF39-D07E5CC57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5842-0B36-4524-820B-7E90FA648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E844-48C9-4CEE-9B6E-D99566790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C258-69CB-4C24-BC15-2CA374DBF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652C-D749-41FD-AEDC-51F7FDE50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8C9B-9941-4FC3-854A-F8496571C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23C1-B17B-4551-A8C9-246CA2BE0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B920-E4F9-40D5-AA74-D63B35398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0DB2-0509-4972-A448-C19513F3E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72C-6C4D-4AAB-9A74-3A930FB2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A82-F290-4AEE-BC98-5D1E3F7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3D3-CB91-41FB-9A85-B49E1CB3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A2B-E179-42DE-B883-FE967372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389-6E2D-4EDD-9D16-92DA9901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281-1AA9-48CD-9B6B-52DA450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D23-213E-4636-A0CD-F909C0F1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A67-E306-4DE6-AC24-7830CFDC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57B-C6B3-4A12-9CED-940A199F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45F-6214-49ED-BC5E-243FCA1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436-D868-49AA-A730-95B36E8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C4F-62A6-4ABF-A8D7-8C8C8F2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B85B-F412-4AD3-A8CF-E7B96F86A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Solfege 1.5a Sol - So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27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7010280" y="1371600"/>
            <a:ext cx="2133720" cy="3048120"/>
            <a:chOff x="7010280" y="1371600"/>
            <a:chExt cx="2133720" cy="3048120"/>
          </a:xfrm>
        </p:grpSpPr>
        <p:sp>
          <p:nvSpPr>
            <p:cNvPr id="134" name="Oval 15"/>
            <p:cNvSpPr/>
            <p:nvPr/>
          </p:nvSpPr>
          <p:spPr>
            <a:xfrm>
              <a:off x="7010280" y="1371600"/>
              <a:ext cx="21337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7418520" y="1743480"/>
              <a:ext cx="133524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38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7010280" y="1371600"/>
            <a:ext cx="2133720" cy="3048120"/>
            <a:chOff x="7010280" y="1371600"/>
            <a:chExt cx="2133720" cy="3048120"/>
          </a:xfrm>
        </p:grpSpPr>
        <p:sp>
          <p:nvSpPr>
            <p:cNvPr id="145" name="Oval 15"/>
            <p:cNvSpPr/>
            <p:nvPr/>
          </p:nvSpPr>
          <p:spPr>
            <a:xfrm>
              <a:off x="7010280" y="1371600"/>
              <a:ext cx="21337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7418520" y="1743480"/>
              <a:ext cx="133524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45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0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49" name="Rectangle 11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23"/>
          <p:cNvGrpSpPr/>
          <p:nvPr/>
        </p:nvGrpSpPr>
        <p:grpSpPr>
          <a:xfrm>
            <a:off x="6248520" y="1371600"/>
            <a:ext cx="2514600" cy="3048120"/>
            <a:chOff x="6248520" y="1371600"/>
            <a:chExt cx="2514600" cy="3048120"/>
          </a:xfrm>
        </p:grpSpPr>
        <p:sp>
          <p:nvSpPr>
            <p:cNvPr id="156" name="Oval 15"/>
            <p:cNvSpPr/>
            <p:nvPr/>
          </p:nvSpPr>
          <p:spPr>
            <a:xfrm>
              <a:off x="6248520" y="1371600"/>
              <a:ext cx="251460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473880" y="2127600"/>
              <a:ext cx="2079000" cy="161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4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60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0"/>
          <p:cNvGrpSpPr/>
          <p:nvPr/>
        </p:nvGrpSpPr>
        <p:grpSpPr>
          <a:xfrm>
            <a:off x="5486400" y="1295280"/>
            <a:ext cx="2362320" cy="3048120"/>
            <a:chOff x="5486400" y="1295280"/>
            <a:chExt cx="2362320" cy="3048120"/>
          </a:xfrm>
        </p:grpSpPr>
        <p:sp>
          <p:nvSpPr>
            <p:cNvPr id="166" name="Oval 15"/>
            <p:cNvSpPr/>
            <p:nvPr/>
          </p:nvSpPr>
          <p:spPr>
            <a:xfrm>
              <a:off x="54864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2" descr="C:\Users\Lee\Documents\Baby education resources\Music\solfege Mi image.gif"/>
            <p:cNvPicPr/>
            <p:nvPr/>
          </p:nvPicPr>
          <p:blipFill>
            <a:blip r:embed="rId1"/>
            <a:stretch/>
          </p:blipFill>
          <p:spPr>
            <a:xfrm>
              <a:off x="5864400" y="1798200"/>
              <a:ext cx="1609560" cy="20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1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71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4724280" y="1676520"/>
            <a:ext cx="2514600" cy="2971800"/>
            <a:chOff x="4724280" y="1676520"/>
            <a:chExt cx="2514600" cy="2971800"/>
          </a:xfrm>
        </p:grpSpPr>
        <p:sp>
          <p:nvSpPr>
            <p:cNvPr id="178" name="Oval 15"/>
            <p:cNvSpPr/>
            <p:nvPr/>
          </p:nvSpPr>
          <p:spPr>
            <a:xfrm>
              <a:off x="4724280" y="16765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5102280" y="220680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82" name="Rectangle 14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25"/>
          <p:cNvGrpSpPr/>
          <p:nvPr/>
        </p:nvGrpSpPr>
        <p:grpSpPr>
          <a:xfrm>
            <a:off x="3886200" y="1295280"/>
            <a:ext cx="2362320" cy="3048120"/>
            <a:chOff x="3886200" y="1295280"/>
            <a:chExt cx="2362320" cy="3048120"/>
          </a:xfrm>
        </p:grpSpPr>
        <p:sp>
          <p:nvSpPr>
            <p:cNvPr id="189" name="Oval 15"/>
            <p:cNvSpPr/>
            <p:nvPr/>
          </p:nvSpPr>
          <p:spPr>
            <a:xfrm>
              <a:off x="3886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340160" y="1901880"/>
              <a:ext cx="145692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27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3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93" name="Rectangle 16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13"/>
          <p:cNvGrpSpPr/>
          <p:nvPr/>
        </p:nvGrpSpPr>
        <p:grpSpPr>
          <a:xfrm>
            <a:off x="2895480" y="1295280"/>
            <a:ext cx="2667240" cy="3048120"/>
            <a:chOff x="2895480" y="1295280"/>
            <a:chExt cx="2667240" cy="3048120"/>
          </a:xfrm>
        </p:grpSpPr>
        <p:sp>
          <p:nvSpPr>
            <p:cNvPr id="200" name="Oval 15"/>
            <p:cNvSpPr/>
            <p:nvPr/>
          </p:nvSpPr>
          <p:spPr>
            <a:xfrm>
              <a:off x="2895480" y="1295280"/>
              <a:ext cx="266724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133080" y="2054160"/>
              <a:ext cx="213408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7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204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2286000" y="1600200"/>
            <a:ext cx="2362320" cy="3048120"/>
            <a:chOff x="2286000" y="1600200"/>
            <a:chExt cx="2362320" cy="3048120"/>
          </a:xfrm>
        </p:grpSpPr>
        <p:sp>
          <p:nvSpPr>
            <p:cNvPr id="211" name="Oval 15"/>
            <p:cNvSpPr/>
            <p:nvPr/>
          </p:nvSpPr>
          <p:spPr>
            <a:xfrm>
              <a:off x="2286000" y="160020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664000" y="2054160"/>
              <a:ext cx="160956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4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6"/>
          <p:cNvSpPr/>
          <p:nvPr/>
        </p:nvSpPr>
        <p:spPr>
          <a:xfrm>
            <a:off x="70866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23623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948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9625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55627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1600200" y="1295280"/>
            <a:ext cx="2362320" cy="3048120"/>
            <a:chOff x="1600200" y="1295280"/>
            <a:chExt cx="2362320" cy="3048120"/>
          </a:xfrm>
        </p:grpSpPr>
        <p:sp>
          <p:nvSpPr>
            <p:cNvPr id="221" name="Oval 15"/>
            <p:cNvSpPr/>
            <p:nvPr/>
          </p:nvSpPr>
          <p:spPr>
            <a:xfrm>
              <a:off x="1600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0541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9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70866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23623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60948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39625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55627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1600200" y="1295280"/>
            <a:ext cx="2362320" cy="3048120"/>
            <a:chOff x="1600200" y="1295280"/>
            <a:chExt cx="2362320" cy="3048120"/>
          </a:xfrm>
        </p:grpSpPr>
        <p:sp>
          <p:nvSpPr>
            <p:cNvPr id="57" name="Oval 15"/>
            <p:cNvSpPr/>
            <p:nvPr/>
          </p:nvSpPr>
          <p:spPr>
            <a:xfrm>
              <a:off x="1600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0541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61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2286000" y="1600200"/>
            <a:ext cx="2362320" cy="3048120"/>
            <a:chOff x="2286000" y="1600200"/>
            <a:chExt cx="2362320" cy="3048120"/>
          </a:xfrm>
        </p:grpSpPr>
        <p:sp>
          <p:nvSpPr>
            <p:cNvPr id="68" name="Oval 15"/>
            <p:cNvSpPr/>
            <p:nvPr/>
          </p:nvSpPr>
          <p:spPr>
            <a:xfrm>
              <a:off x="2286000" y="160020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664000" y="2054160"/>
              <a:ext cx="160956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72" name="Rectangle 16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5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2895480" y="1295280"/>
            <a:ext cx="2667240" cy="3048120"/>
            <a:chOff x="2895480" y="1295280"/>
            <a:chExt cx="2667240" cy="3048120"/>
          </a:xfrm>
        </p:grpSpPr>
        <p:sp>
          <p:nvSpPr>
            <p:cNvPr id="79" name="Oval 15"/>
            <p:cNvSpPr/>
            <p:nvPr/>
          </p:nvSpPr>
          <p:spPr>
            <a:xfrm>
              <a:off x="2895480" y="1295280"/>
              <a:ext cx="266724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133080" y="2054160"/>
              <a:ext cx="213408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7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83" name="Rectangle 14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25"/>
          <p:cNvGrpSpPr/>
          <p:nvPr/>
        </p:nvGrpSpPr>
        <p:grpSpPr>
          <a:xfrm>
            <a:off x="3886200" y="1295280"/>
            <a:ext cx="2362320" cy="3048120"/>
            <a:chOff x="3886200" y="1295280"/>
            <a:chExt cx="2362320" cy="3048120"/>
          </a:xfrm>
        </p:grpSpPr>
        <p:sp>
          <p:nvSpPr>
            <p:cNvPr id="90" name="Oval 15"/>
            <p:cNvSpPr/>
            <p:nvPr/>
          </p:nvSpPr>
          <p:spPr>
            <a:xfrm>
              <a:off x="3886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340160" y="1901880"/>
              <a:ext cx="145692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2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94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4724280" y="1676520"/>
            <a:ext cx="2514600" cy="2971800"/>
            <a:chOff x="4724280" y="1676520"/>
            <a:chExt cx="2514600" cy="2971800"/>
          </a:xfrm>
        </p:grpSpPr>
        <p:sp>
          <p:nvSpPr>
            <p:cNvPr id="101" name="Oval 15"/>
            <p:cNvSpPr/>
            <p:nvPr/>
          </p:nvSpPr>
          <p:spPr>
            <a:xfrm>
              <a:off x="4724280" y="16765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5102280" y="220680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05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5486400" y="1295280"/>
            <a:ext cx="2362320" cy="3048120"/>
            <a:chOff x="5486400" y="1295280"/>
            <a:chExt cx="2362320" cy="3048120"/>
          </a:xfrm>
        </p:grpSpPr>
        <p:sp>
          <p:nvSpPr>
            <p:cNvPr id="111" name="Oval 15"/>
            <p:cNvSpPr/>
            <p:nvPr/>
          </p:nvSpPr>
          <p:spPr>
            <a:xfrm>
              <a:off x="54864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2" descr="C:\Users\Lee\Documents\Baby education resources\Music\solfege Mi image.gif"/>
            <p:cNvPicPr/>
            <p:nvPr/>
          </p:nvPicPr>
          <p:blipFill>
            <a:blip r:embed="rId1"/>
            <a:stretch/>
          </p:blipFill>
          <p:spPr>
            <a:xfrm>
              <a:off x="5864400" y="1798200"/>
              <a:ext cx="1609560" cy="20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1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0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16" name="Rectangle 11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23"/>
          <p:cNvGrpSpPr/>
          <p:nvPr/>
        </p:nvGrpSpPr>
        <p:grpSpPr>
          <a:xfrm>
            <a:off x="6248520" y="1371600"/>
            <a:ext cx="2514600" cy="3048120"/>
            <a:chOff x="6248520" y="1371600"/>
            <a:chExt cx="2514600" cy="3048120"/>
          </a:xfrm>
        </p:grpSpPr>
        <p:sp>
          <p:nvSpPr>
            <p:cNvPr id="123" name="Oval 15"/>
            <p:cNvSpPr/>
            <p:nvPr/>
          </p:nvSpPr>
          <p:spPr>
            <a:xfrm>
              <a:off x="6248520" y="1371600"/>
              <a:ext cx="251460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473880" y="2127600"/>
              <a:ext cx="2079000" cy="161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4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3-03T21:09:01Z</dcterms:modified>
  <cp:revision>116</cp:revision>
  <dc:subject/>
  <dc:title>Do</dc:title>
</cp:coreProperties>
</file>