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7771-91E8-4C6F-B5A1-9D45C1D34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AC52-6B55-4567-BC71-03E277D65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4396-6376-47E0-B4AA-CD5FBA112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8B4C-3007-48D6-9155-C0F440189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510A-D244-4928-9F50-D96F011EB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96F2-AE8B-41A2-A46D-605FC27E9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3A1D-ADBA-4101-AADC-8841DA603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E5E9-E67B-4692-AE46-5364A7B58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9833-BA1A-4761-8428-BEE471EB3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AB72-6183-46F4-9E58-C6BDBDC6B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7215-FCEC-441B-ABEE-FF9E65F3C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DFBA-8BD7-4335-B4EA-F9C74DD74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5C4B-526B-4E40-B2FB-5F72A400B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81EA-73F7-4938-B9AF-96426053B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B63F-6B1B-4C9B-AF3C-5D5F545BC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49F7-1694-40C5-9DCD-D545A807A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114A-A0B6-4A6A-9B39-67F46D9D9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6C64-D835-4E99-8AF5-BAE5F7514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C568-F585-43C6-A898-43649E8B4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EA70-DC02-4EE8-A2B4-CA826D83E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7646-80C4-4F40-A77F-9B21BFDC4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964D-C234-4948-8E75-C1D9BFB13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CAA5-9A41-4B7C-A065-872C15E0A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A46E-EAEF-46B9-827D-40FCF8118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6C95-38A8-4200-9164-275AF9227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ADB3-2882-4F8F-8CCE-D1D43AC66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EB5D-1627-4043-BBB9-3675832BA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1D01-CCD0-425C-B141-18780E36C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A9C0-3545-4E8E-AFD7-55FBFA1E3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A24F-A3E9-4482-B938-BE1A7AB19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0C4A-FF79-4F5D-9524-F0A997F48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B9AD-0A3A-4D54-B612-B042ECE53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3FAE-0805-48CC-BCD2-9C759BDD5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161A-B24B-4EFD-8351-89A0B83E0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6D5D-5BF3-4A80-BC10-2F96ACB57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CF76-4362-493E-9FFE-5CA26E6AE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E141-12AB-4038-BC68-34B3C0E97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A324-10C8-4CCD-AAAF-269386C2B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8663-04AA-4817-B7CA-6F5C76D13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073D-AE61-41B6-B8B8-44DF53A14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6AD8-5C33-4A23-8BB5-17C0E77CC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7B55-5C1A-4BA5-A306-0026372C4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6D2D-9FAD-470D-A6A0-1AB3D03E6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5EAF-CA01-4B56-8611-43F18A4E5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71D7-2001-446F-A7DD-3769E690D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A5C8-524A-4440-9244-FC07E1BB2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0C9A-92C9-4A3D-880C-90899760B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8E0-8D66-413B-8FD6-BFD62E90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FF5-6906-4F95-84EE-6F1CE33D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639-60DE-4F98-AA63-4D635F27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FA9-A02A-4C18-BF78-790400EE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FB8-7F41-4386-81F7-B730038E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577-BFFC-4C97-9311-05214B2B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6A8-23E6-48E2-9EF2-A8494648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FFE-64DD-4C16-BE82-F570EE6B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908-01A4-4BD5-9951-7669B044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0BC-4211-4D99-99F0-005681D1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E46-EC60-4964-BFFB-A4D3CC9D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43B-E99C-442E-9FA6-69B0C66B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08C1-2081-4D19-9C6A-F560AACAE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Jingle Bells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Sol 1 second.wav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129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5" descr="Preview image of file"/>
            <p:cNvPicPr/>
            <p:nvPr/>
          </p:nvPicPr>
          <p:blipFill>
            <a:blip r:embed="rId2"/>
            <a:srcRect l="23752" t="7930" r="19584" b="3669"/>
            <a:stretch/>
          </p:blipFill>
          <p:spPr>
            <a:xfrm>
              <a:off x="3429000" y="1676160"/>
              <a:ext cx="1469160" cy="2295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04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1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762120" y="1219320"/>
            <a:ext cx="78552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139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5" descr="Preview image of file"/>
            <p:cNvPicPr/>
            <p:nvPr/>
          </p:nvPicPr>
          <p:blipFill>
            <a:blip r:embed="rId1"/>
            <a:srcRect l="31731" t="16417" r="27479" b="17909"/>
            <a:stretch/>
          </p:blipFill>
          <p:spPr>
            <a:xfrm>
              <a:off x="457200" y="2057400"/>
              <a:ext cx="1447920" cy="20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Do 1 second [v2].wav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5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14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5" descr="Preview image of file"/>
            <p:cNvPicPr/>
            <p:nvPr/>
          </p:nvPicPr>
          <p:blipFill>
            <a:blip r:embed="rId1"/>
            <a:srcRect l="6899" t="6899" r="6899" b="10345"/>
            <a:stretch/>
          </p:blipFill>
          <p:spPr>
            <a:xfrm>
              <a:off x="6094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Re 1 second [v2].wav" descr=""/>
          <p:cNvPicPr/>
          <p:nvPr/>
        </p:nvPicPr>
        <p:blipFill>
          <a:blip r:embed="rId2"/>
          <a:stretch/>
        </p:blipFill>
        <p:spPr>
          <a:xfrm>
            <a:off x="-15238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44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Mi long.wav" descr=""/>
          <p:cNvPicPr/>
          <p:nvPr/>
        </p:nvPicPr>
        <p:blipFill>
          <a:blip r:embed="rId2"/>
          <a:stretch/>
        </p:blipFill>
        <p:spPr>
          <a:xfrm>
            <a:off x="-11430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182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Fa 1 second.wav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Preview image of file"/>
          <p:cNvPicPr/>
          <p:nvPr/>
        </p:nvPicPr>
        <p:blipFill>
          <a:blip r:embed="rId2"/>
          <a:srcRect l="8067" t="27029" r="8579" b="8107"/>
          <a:stretch/>
        </p:blipFill>
        <p:spPr>
          <a:xfrm>
            <a:off x="2133720" y="2057400"/>
            <a:ext cx="20667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0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Fa 1 second.wav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Preview image of file"/>
          <p:cNvPicPr/>
          <p:nvPr/>
        </p:nvPicPr>
        <p:blipFill>
          <a:blip r:embed="rId2"/>
          <a:stretch/>
        </p:blipFill>
        <p:spPr>
          <a:xfrm>
            <a:off x="2127240" y="2054160"/>
            <a:ext cx="2079720" cy="16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0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Preview image of file"/>
          <p:cNvPicPr/>
          <p:nvPr/>
        </p:nvPicPr>
        <p:blipFill>
          <a:blip r:embed="rId1"/>
          <a:stretch/>
        </p:blipFill>
        <p:spPr>
          <a:xfrm>
            <a:off x="2127240" y="2054160"/>
            <a:ext cx="2079720" cy="1609920"/>
          </a:xfrm>
          <a:prstGeom prst="rect">
            <a:avLst/>
          </a:prstGeom>
          <a:ln w="0">
            <a:noFill/>
          </a:ln>
        </p:spPr>
      </p:pic>
      <p:pic>
        <p:nvPicPr>
          <p:cNvPr id="191" name="Fa 2 seconds.wav" descr=""/>
          <p:cNvPicPr/>
          <p:nvPr/>
        </p:nvPicPr>
        <p:blipFill>
          <a:blip r:embed="rId2"/>
          <a:stretch/>
        </p:blipFill>
        <p:spPr>
          <a:xfrm>
            <a:off x="-7621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98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002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Mi 1 second.wav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002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Mi 2 seconds.wav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8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22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5" descr="Preview image of file"/>
            <p:cNvPicPr/>
            <p:nvPr/>
          </p:nvPicPr>
          <p:blipFill>
            <a:blip r:embed="rId1"/>
            <a:srcRect l="6899" t="6899" r="6899" b="10345"/>
            <a:stretch/>
          </p:blipFill>
          <p:spPr>
            <a:xfrm>
              <a:off x="6094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Re 1 second [v2].wav" descr=""/>
          <p:cNvPicPr/>
          <p:nvPr/>
        </p:nvPicPr>
        <p:blipFill>
          <a:blip r:embed="rId2"/>
          <a:stretch/>
        </p:blipFill>
        <p:spPr>
          <a:xfrm>
            <a:off x="-15238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044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23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Re 1 second [v2].wav" descr=""/>
          <p:cNvPicPr/>
          <p:nvPr/>
        </p:nvPicPr>
        <p:blipFill>
          <a:blip r:embed="rId2"/>
          <a:stretch/>
        </p:blipFill>
        <p:spPr>
          <a:xfrm>
            <a:off x="-15238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044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24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Re 1 second [v2].wav" descr=""/>
          <p:cNvPicPr/>
          <p:nvPr/>
        </p:nvPicPr>
        <p:blipFill>
          <a:blip r:embed="rId2"/>
          <a:stretch/>
        </p:blipFill>
        <p:spPr>
          <a:xfrm>
            <a:off x="-15238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044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25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Re 1 second [v2].wav" descr=""/>
          <p:cNvPicPr/>
          <p:nvPr/>
        </p:nvPicPr>
        <p:blipFill>
          <a:blip r:embed="rId2"/>
          <a:stretch/>
        </p:blipFill>
        <p:spPr>
          <a:xfrm>
            <a:off x="-15238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044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26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Picture 5" descr="Preview image of file"/>
            <p:cNvPicPr/>
            <p:nvPr/>
          </p:nvPicPr>
          <p:blipFill>
            <a:blip r:embed="rId1"/>
            <a:srcRect l="6899" t="6899" r="6899" b="10345"/>
            <a:stretch/>
          </p:blipFill>
          <p:spPr>
            <a:xfrm>
              <a:off x="6094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Re 2 seconds.wav" descr=""/>
          <p:cNvPicPr/>
          <p:nvPr/>
        </p:nvPicPr>
        <p:blipFill>
          <a:blip r:embed="rId2"/>
          <a:stretch/>
        </p:blipFill>
        <p:spPr>
          <a:xfrm>
            <a:off x="-144792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20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280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5" descr="Preview image of file"/>
            <p:cNvPicPr/>
            <p:nvPr/>
          </p:nvPicPr>
          <p:blipFill>
            <a:blip r:embed="rId1"/>
            <a:srcRect l="23752" t="7930" r="19584" b="3669"/>
            <a:stretch/>
          </p:blipFill>
          <p:spPr>
            <a:xfrm>
              <a:off x="3429000" y="1676160"/>
              <a:ext cx="1469160" cy="229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Sol 2 seconds.wav" descr=""/>
          <p:cNvPicPr/>
          <p:nvPr/>
        </p:nvPicPr>
        <p:blipFill>
          <a:blip r:embed="rId2"/>
          <a:stretch/>
        </p:blipFill>
        <p:spPr>
          <a:xfrm>
            <a:off x="-13716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5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002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Mi 1 second.wav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002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Mi 2 seconds.wav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008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002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Mi 1 second.wav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002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Mi 2 seconds.wav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08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002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Sol 1 second.wav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362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Preview image of file"/>
            <p:cNvPicPr/>
            <p:nvPr/>
          </p:nvPicPr>
          <p:blipFill>
            <a:blip r:embed="rId2"/>
            <a:srcRect l="23752" t="7930" r="19584" b="3669"/>
            <a:stretch/>
          </p:blipFill>
          <p:spPr>
            <a:xfrm>
              <a:off x="3429000" y="1676160"/>
              <a:ext cx="1469160" cy="2295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4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1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2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3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4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0"/>
          <p:cNvSpPr/>
          <p:nvPr/>
        </p:nvSpPr>
        <p:spPr>
          <a:xfrm>
            <a:off x="762120" y="1219320"/>
            <a:ext cx="78552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372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5" descr="Preview image of file"/>
            <p:cNvPicPr/>
            <p:nvPr/>
          </p:nvPicPr>
          <p:blipFill>
            <a:blip r:embed="rId1"/>
            <a:srcRect l="31731" t="16417" r="27479" b="17909"/>
            <a:stretch/>
          </p:blipFill>
          <p:spPr>
            <a:xfrm>
              <a:off x="457200" y="2057400"/>
              <a:ext cx="1447920" cy="20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Do 1 second [v2].wav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050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382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Picture 5" descr="Preview image of file"/>
            <p:cNvPicPr/>
            <p:nvPr/>
          </p:nvPicPr>
          <p:blipFill>
            <a:blip r:embed="rId1"/>
            <a:srcRect l="6899" t="6899" r="6899" b="10345"/>
            <a:stretch/>
          </p:blipFill>
          <p:spPr>
            <a:xfrm>
              <a:off x="6094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4" name="Re 1 second [v2].wav" descr=""/>
          <p:cNvPicPr/>
          <p:nvPr/>
        </p:nvPicPr>
        <p:blipFill>
          <a:blip r:embed="rId2"/>
          <a:stretch/>
        </p:blipFill>
        <p:spPr>
          <a:xfrm>
            <a:off x="-15238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044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Mi long.wav" descr=""/>
          <p:cNvPicPr/>
          <p:nvPr/>
        </p:nvPicPr>
        <p:blipFill>
          <a:blip r:embed="rId2"/>
          <a:stretch/>
        </p:blipFill>
        <p:spPr>
          <a:xfrm>
            <a:off x="-11430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182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Fa 1 second.wav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Preview image of file"/>
          <p:cNvPicPr/>
          <p:nvPr/>
        </p:nvPicPr>
        <p:blipFill>
          <a:blip r:embed="rId2"/>
          <a:srcRect l="8067" t="27029" r="8579" b="8107"/>
          <a:stretch/>
        </p:blipFill>
        <p:spPr>
          <a:xfrm>
            <a:off x="2133720" y="2057400"/>
            <a:ext cx="20667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004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Fa 1 second.wav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Preview image of file"/>
          <p:cNvPicPr/>
          <p:nvPr/>
        </p:nvPicPr>
        <p:blipFill>
          <a:blip r:embed="rId2"/>
          <a:stretch/>
        </p:blipFill>
        <p:spPr>
          <a:xfrm>
            <a:off x="2127240" y="2054160"/>
            <a:ext cx="2079720" cy="16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00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5" descr="Preview image of file"/>
          <p:cNvPicPr/>
          <p:nvPr/>
        </p:nvPicPr>
        <p:blipFill>
          <a:blip r:embed="rId1"/>
          <a:stretch/>
        </p:blipFill>
        <p:spPr>
          <a:xfrm>
            <a:off x="2127240" y="2054160"/>
            <a:ext cx="2079720" cy="1609920"/>
          </a:xfrm>
          <a:prstGeom prst="rect">
            <a:avLst/>
          </a:prstGeom>
          <a:ln w="0">
            <a:noFill/>
          </a:ln>
        </p:spPr>
      </p:pic>
      <p:pic>
        <p:nvPicPr>
          <p:cNvPr id="424" name="Fa 2 seconds.wav" descr=""/>
          <p:cNvPicPr/>
          <p:nvPr/>
        </p:nvPicPr>
        <p:blipFill>
          <a:blip r:embed="rId2"/>
          <a:stretch/>
        </p:blipFill>
        <p:spPr>
          <a:xfrm>
            <a:off x="-7621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998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Mi 1 second.wav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0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002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Mi 1 second.wav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002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Mi 2 seconds.wav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008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2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463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Picture 5" descr="Preview image of file"/>
            <p:cNvPicPr/>
            <p:nvPr/>
          </p:nvPicPr>
          <p:blipFill>
            <a:blip r:embed="rId1"/>
            <a:srcRect l="23752" t="7930" r="19584" b="3669"/>
            <a:stretch/>
          </p:blipFill>
          <p:spPr>
            <a:xfrm>
              <a:off x="3429000" y="1676160"/>
              <a:ext cx="1469160" cy="229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5" name="Sol 1 second.wav" descr=""/>
          <p:cNvPicPr/>
          <p:nvPr/>
        </p:nvPicPr>
        <p:blipFill>
          <a:blip r:embed="rId2"/>
          <a:stretch/>
        </p:blipFill>
        <p:spPr>
          <a:xfrm>
            <a:off x="-609480" y="3505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004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3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474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Picture 5" descr="Preview image of file"/>
            <p:cNvPicPr/>
            <p:nvPr/>
          </p:nvPicPr>
          <p:blipFill>
            <a:blip r:embed="rId1"/>
            <a:srcRect l="23752" t="7930" r="19584" b="3669"/>
            <a:stretch/>
          </p:blipFill>
          <p:spPr>
            <a:xfrm>
              <a:off x="3429000" y="1676160"/>
              <a:ext cx="1469160" cy="229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Sol 1 second.wav" descr=""/>
          <p:cNvPicPr/>
          <p:nvPr/>
        </p:nvPicPr>
        <p:blipFill>
          <a:blip r:embed="rId2"/>
          <a:stretch/>
        </p:blipFill>
        <p:spPr>
          <a:xfrm>
            <a:off x="-13716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004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5" descr="Preview image of file"/>
          <p:cNvPicPr/>
          <p:nvPr/>
        </p:nvPicPr>
        <p:blipFill>
          <a:blip r:embed="rId1"/>
          <a:srcRect l="8067" t="27029" r="8579" b="8107"/>
          <a:stretch/>
        </p:blipFill>
        <p:spPr>
          <a:xfrm>
            <a:off x="2133720" y="2057400"/>
            <a:ext cx="2066760" cy="1600200"/>
          </a:xfrm>
          <a:prstGeom prst="rect">
            <a:avLst/>
          </a:prstGeom>
          <a:ln w="0">
            <a:noFill/>
          </a:ln>
        </p:spPr>
      </p:pic>
      <p:pic>
        <p:nvPicPr>
          <p:cNvPr id="486" name="Fa 1 second.wav" descr=""/>
          <p:cNvPicPr/>
          <p:nvPr/>
        </p:nvPicPr>
        <p:blipFill>
          <a:blip r:embed="rId2"/>
          <a:stretch/>
        </p:blipFill>
        <p:spPr>
          <a:xfrm>
            <a:off x="-10666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004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3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494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5" name="Picture 5" descr="Preview image of file"/>
            <p:cNvPicPr/>
            <p:nvPr/>
          </p:nvPicPr>
          <p:blipFill>
            <a:blip r:embed="rId1"/>
            <a:srcRect l="6899" t="6899" r="6899" b="10345"/>
            <a:stretch/>
          </p:blipFill>
          <p:spPr>
            <a:xfrm>
              <a:off x="6094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6" name="Re 1 second [v2].wav" descr=""/>
          <p:cNvPicPr/>
          <p:nvPr/>
        </p:nvPicPr>
        <p:blipFill>
          <a:blip r:embed="rId2"/>
          <a:stretch/>
        </p:blipFill>
        <p:spPr>
          <a:xfrm>
            <a:off x="-8380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044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1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3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4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5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0"/>
          <p:cNvSpPr/>
          <p:nvPr/>
        </p:nvSpPr>
        <p:spPr>
          <a:xfrm>
            <a:off x="762120" y="1219320"/>
            <a:ext cx="78552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4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505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6" name="Picture 5" descr="Preview image of file"/>
            <p:cNvPicPr/>
            <p:nvPr/>
          </p:nvPicPr>
          <p:blipFill>
            <a:blip r:embed="rId1"/>
            <a:srcRect l="31731" t="16417" r="27479" b="17909"/>
            <a:stretch/>
          </p:blipFill>
          <p:spPr>
            <a:xfrm>
              <a:off x="457200" y="2057400"/>
              <a:ext cx="1447920" cy="20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7" name="do long 2 seconds.wav" descr=""/>
          <p:cNvPicPr/>
          <p:nvPr/>
        </p:nvPicPr>
        <p:blipFill>
          <a:blip r:embed="rId2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2212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Mi 2 seconds.wav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8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0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Mi 1 second.wav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0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Mi 2 seconds.wav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8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00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2-26T14:27:13Z</dcterms:modified>
  <cp:revision>153</cp:revision>
  <dc:subject/>
  <dc:title>Do</dc:title>
</cp:coreProperties>
</file>