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E6B-BE7E-45CF-BE7F-BD12D8F89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078-F000-4B14-8FE7-8F5000AD6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1A09-6505-4839-8C25-BCAC44827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3AA-27F0-4986-8F5E-59B68CC63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9672-5558-4ACE-95CF-445B62E95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247-2B8A-49E7-93F3-3B661EC9E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511-3017-494E-A082-003629E5D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5F48-F444-40EB-936C-F680D460F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565-B833-4D50-8EB0-514B6EBAE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ED8-A5A3-45BC-8D1C-3B0814D46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F19-BDCD-4C5C-B908-9E14C52C9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30F7-CE9F-4F8E-AC21-D4A7944C3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B38-2EDD-49D0-B1B6-BF65D7218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473F-17B0-42FA-87E6-EA6D5D164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E5A9-6A81-4DAB-A937-20C748739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967-E73F-4204-BA7C-3F8FC0E6F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AA1-B735-410E-AA98-CF211C070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CC1-F904-4842-B371-4430669C0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B5E-AB1A-4E78-A04F-02C78725C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439-26BF-4E79-945D-25F964FF4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C06-3DD9-4D14-8FE8-140A42F7D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FEAB-D045-4280-8687-12C11F897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4B4-DE8C-44DF-BDDB-FCA1A4B09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370E-B14C-4768-A380-C8A2DDFEA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5B0-2C5F-4086-BED5-5262334F0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6C0-8A40-4C22-81C7-50F45E944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6F3-82ED-401F-8041-D6660F297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B417-C124-47D0-9938-00D29853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A17-9D2A-4CE7-825C-415BE8C4D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A73-10BF-4E65-B682-D9FB3FC9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BE0F-DB6A-4B57-A3F3-5F6C74F7C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C9C-8064-4F09-B0FB-045E81213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7D6-D740-4280-98D9-ADAEFCBBB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CFE-EE0A-43F6-B785-F8AF04F8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DFD1-9996-4FA6-9825-AFDA800FA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A0F-8B45-4ABC-B84E-BDF7E8C8D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169-DE74-4E33-92BB-39356AF7F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7A4-45C1-44E6-8E17-6622B503F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3DB3-3EFD-4701-8D67-F4DD8E316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4233-1FF0-4C76-876E-EF12A9064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737-5215-468C-B8FB-FEDDE6658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C2C-77B9-4F75-8848-F1D8E33E2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3AE-BBF2-4EAE-A9A0-BC44715E6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BEBB-006D-42A2-8B3D-F1C70C5E7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E41-19EC-46BF-9270-BBC59F34C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D01-E0DA-4508-AA53-66B687A76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BC0-ECDA-4BAF-BC4C-425C15F85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272-8723-4C65-BEDF-C788CE0F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B2E-0795-426B-B87B-5F98C8E8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EEA-260F-4D08-B0DD-7E84E190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B5A-DA1D-4C61-A545-45D76924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39A-2C4C-4600-B5F9-94181FC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15E-48EE-4979-B553-E6A3848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CBD-F922-491C-A904-92CB649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181-DF21-41E9-B13F-30798135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B95-663D-4F34-8C90-6AD0F2B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100-799D-48DC-BC78-A42904B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F10-228E-40D2-A4A3-E1ABE73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525-E568-4170-980A-15B7426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2DD-9E2A-47E8-82E3-A292371F3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Jingle Bell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0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5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i long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85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88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91" name="Fa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9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00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0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4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04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04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4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2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l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0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0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0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00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05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Mi long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18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54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00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57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00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60" name="Fa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9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00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02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00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00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78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00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4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212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18T20:24:23Z</dcterms:modified>
  <cp:revision>147</cp:revision>
  <dc:subject/>
  <dc:title>Do</dc:title>
</cp:coreProperties>
</file>