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1377-4702-44D0-BE37-B9C6C72DF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38F1-1B18-4AF6-90F8-F5FFEFB66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3D7F-1E1D-4CC8-B905-159E7787B4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C0E2-00C0-4807-81B5-04B194AB4F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BCE2-CB88-4D22-8EA9-C550512DDF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B558-C102-4D90-BE4D-31C76C62A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74C9-7471-4728-BFDF-EC1103AE45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173D-692B-4DB5-A8AD-8A8D3B6E95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25C7-754A-4E46-B8FE-031AE2E12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CF18-47DD-4227-92FD-06573FD5B6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CC3E-A9F4-4211-A83A-FAA2A4461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FDCD-7328-4DB3-853E-DCF788F08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BAA9-9841-4293-AFD2-480BF2E72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F89C-C245-4223-8618-B98424838A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CC7D-CB40-495F-B6B6-A4D44C528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E4F7-D31C-4227-9C7E-194AA7E7E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59DD-D635-4321-A70E-142139EB91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D1A7-53F2-483A-9B9F-1F390C32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5A5B-1C31-47C1-943B-E0C5A226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E20C-C43F-405D-86F6-255F1ACC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7C27-B5C1-49A6-B98D-0785AEA1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2FBA-9E5A-41D7-9863-CF3BDEBC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5DD8-2C4A-42DD-9680-EC918C18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37D0-373B-4E3B-BD49-AE7DB09F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B53C-40B0-4E08-A912-B067D8D9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1A00-D26A-49AB-8C0E-EAC0A9A3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4047-3982-4916-AFA4-6AD9F996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AC5F-0133-4A30-ADB5-6A157FCB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2420-E090-4E1B-98B2-F4503216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D58D-1A81-4D41-AAEA-7357EC2BC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000000"/>
                </a:solidFill>
                <a:latin typeface="Calibri"/>
              </a:rPr>
              <a:t>Hot cross buns</a:t>
            </a:r>
            <a:endParaRPr b="0" lang="en-US" sz="1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1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685800" y="1219320"/>
            <a:ext cx="914400" cy="3733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1"/>
          <p:cNvGrpSpPr/>
          <p:nvPr/>
        </p:nvGrpSpPr>
        <p:grpSpPr>
          <a:xfrm>
            <a:off x="76320" y="1600200"/>
            <a:ext cx="2209680" cy="2971800"/>
            <a:chOff x="76320" y="1600200"/>
            <a:chExt cx="2209680" cy="2971800"/>
          </a:xfrm>
        </p:grpSpPr>
        <p:sp>
          <p:nvSpPr>
            <p:cNvPr id="127" name="Oval 15"/>
            <p:cNvSpPr/>
            <p:nvPr/>
          </p:nvSpPr>
          <p:spPr>
            <a:xfrm>
              <a:off x="76320" y="1600200"/>
              <a:ext cx="220968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451080" y="2054160"/>
              <a:ext cx="1463040" cy="206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Do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8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2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3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4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05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1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685800" y="1219320"/>
            <a:ext cx="914400" cy="3733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5"/>
          <p:cNvSpPr/>
          <p:nvPr/>
        </p:nvSpPr>
        <p:spPr>
          <a:xfrm>
            <a:off x="76320" y="1600200"/>
            <a:ext cx="2209680" cy="297180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Preview image of file"/>
          <p:cNvPicPr/>
          <p:nvPr/>
        </p:nvPicPr>
        <p:blipFill>
          <a:blip r:embed="rId1"/>
          <a:stretch/>
        </p:blipFill>
        <p:spPr>
          <a:xfrm>
            <a:off x="450720" y="2054160"/>
            <a:ext cx="1463760" cy="2067120"/>
          </a:xfrm>
          <a:prstGeom prst="rect">
            <a:avLst/>
          </a:prstGeom>
          <a:ln w="0">
            <a:noFill/>
          </a:ln>
        </p:spPr>
      </p:pic>
      <p:pic>
        <p:nvPicPr>
          <p:cNvPr id="139" name="do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8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23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4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1"/>
          <p:cNvGrpSpPr/>
          <p:nvPr/>
        </p:nvGrpSpPr>
        <p:grpSpPr>
          <a:xfrm>
            <a:off x="228600" y="1447920"/>
            <a:ext cx="2514600" cy="2971800"/>
            <a:chOff x="228600" y="1447920"/>
            <a:chExt cx="2514600" cy="2971800"/>
          </a:xfrm>
        </p:grpSpPr>
        <p:sp>
          <p:nvSpPr>
            <p:cNvPr id="151" name="Oval 15"/>
            <p:cNvSpPr/>
            <p:nvPr/>
          </p:nvSpPr>
          <p:spPr>
            <a:xfrm>
              <a:off x="228600" y="14479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603360" y="1974960"/>
              <a:ext cx="1841040" cy="184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3" name="Re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044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4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1"/>
          <p:cNvGrpSpPr/>
          <p:nvPr/>
        </p:nvGrpSpPr>
        <p:grpSpPr>
          <a:xfrm>
            <a:off x="228600" y="1447920"/>
            <a:ext cx="2514600" cy="2971800"/>
            <a:chOff x="228600" y="1447920"/>
            <a:chExt cx="2514600" cy="2971800"/>
          </a:xfrm>
        </p:grpSpPr>
        <p:sp>
          <p:nvSpPr>
            <p:cNvPr id="161" name="Oval 15"/>
            <p:cNvSpPr/>
            <p:nvPr/>
          </p:nvSpPr>
          <p:spPr>
            <a:xfrm>
              <a:off x="228600" y="14479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603360" y="1974960"/>
              <a:ext cx="1841040" cy="184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3" name="Re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044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4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11"/>
          <p:cNvGrpSpPr/>
          <p:nvPr/>
        </p:nvGrpSpPr>
        <p:grpSpPr>
          <a:xfrm>
            <a:off x="228600" y="1447920"/>
            <a:ext cx="2514600" cy="2971800"/>
            <a:chOff x="228600" y="1447920"/>
            <a:chExt cx="2514600" cy="2971800"/>
          </a:xfrm>
        </p:grpSpPr>
        <p:sp>
          <p:nvSpPr>
            <p:cNvPr id="171" name="Oval 15"/>
            <p:cNvSpPr/>
            <p:nvPr/>
          </p:nvSpPr>
          <p:spPr>
            <a:xfrm>
              <a:off x="228600" y="14479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603360" y="1974960"/>
              <a:ext cx="1841040" cy="184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3" name="Re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20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8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music abc mi_2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Group 11"/>
          <p:cNvGrpSpPr/>
          <p:nvPr/>
        </p:nvGrpSpPr>
        <p:grpSpPr>
          <a:xfrm>
            <a:off x="1219320" y="1295280"/>
            <a:ext cx="2361960" cy="3048120"/>
            <a:chOff x="1219320" y="1295280"/>
            <a:chExt cx="2361960" cy="3048120"/>
          </a:xfrm>
        </p:grpSpPr>
        <p:sp>
          <p:nvSpPr>
            <p:cNvPr id="183" name="Oval 15"/>
            <p:cNvSpPr/>
            <p:nvPr/>
          </p:nvSpPr>
          <p:spPr>
            <a:xfrm>
              <a:off x="1219320" y="1295280"/>
              <a:ext cx="236196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Picture 2" descr="C:\Users\Lee\Documents\Baby education resources\Music\solfege Mi image.gif"/>
            <p:cNvPicPr/>
            <p:nvPr/>
          </p:nvPicPr>
          <p:blipFill>
            <a:blip r:embed="rId2"/>
            <a:stretch/>
          </p:blipFill>
          <p:spPr>
            <a:xfrm>
              <a:off x="1596960" y="1798200"/>
              <a:ext cx="1609200" cy="2097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64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Group 11"/>
          <p:cNvGrpSpPr/>
          <p:nvPr/>
        </p:nvGrpSpPr>
        <p:grpSpPr>
          <a:xfrm>
            <a:off x="228600" y="1447920"/>
            <a:ext cx="2514600" cy="2971800"/>
            <a:chOff x="228600" y="1447920"/>
            <a:chExt cx="2514600" cy="2971800"/>
          </a:xfrm>
        </p:grpSpPr>
        <p:sp>
          <p:nvSpPr>
            <p:cNvPr id="192" name="Oval 15"/>
            <p:cNvSpPr/>
            <p:nvPr/>
          </p:nvSpPr>
          <p:spPr>
            <a:xfrm>
              <a:off x="228600" y="14479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603360" y="1974960"/>
              <a:ext cx="1841040" cy="184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4" name="Re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020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6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1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2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4"/>
          <p:cNvSpPr/>
          <p:nvPr/>
        </p:nvSpPr>
        <p:spPr>
          <a:xfrm>
            <a:off x="685800" y="1219320"/>
            <a:ext cx="914400" cy="3733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do long 2 seconds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11"/>
          <p:cNvGrpSpPr/>
          <p:nvPr/>
        </p:nvGrpSpPr>
        <p:grpSpPr>
          <a:xfrm>
            <a:off x="76320" y="1600200"/>
            <a:ext cx="2209680" cy="2971800"/>
            <a:chOff x="76320" y="1600200"/>
            <a:chExt cx="2209680" cy="2971800"/>
          </a:xfrm>
        </p:grpSpPr>
        <p:sp>
          <p:nvSpPr>
            <p:cNvPr id="204" name="Oval 15"/>
            <p:cNvSpPr/>
            <p:nvPr/>
          </p:nvSpPr>
          <p:spPr>
            <a:xfrm>
              <a:off x="76320" y="1600200"/>
              <a:ext cx="220968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Picture 5" descr="Preview image of file"/>
            <p:cNvPicPr/>
            <p:nvPr/>
          </p:nvPicPr>
          <p:blipFill>
            <a:blip r:embed="rId2"/>
            <a:stretch/>
          </p:blipFill>
          <p:spPr>
            <a:xfrm>
              <a:off x="451080" y="2054160"/>
              <a:ext cx="1463040" cy="2066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212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078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music abc mi_2.wav" descr=""/>
          <p:cNvPicPr/>
          <p:nvPr/>
        </p:nvPicPr>
        <p:blipFill>
          <a:blip r:embed="rId1"/>
          <a:stretch/>
        </p:blipFill>
        <p:spPr>
          <a:xfrm>
            <a:off x="480060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Lee\Documents\Baby education resources\Music\solfege Mi image.gif"/>
          <p:cNvPicPr/>
          <p:nvPr/>
        </p:nvPicPr>
        <p:blipFill>
          <a:blip r:embed="rId2"/>
          <a:stretch/>
        </p:blipFill>
        <p:spPr>
          <a:xfrm>
            <a:off x="1670040" y="1798560"/>
            <a:ext cx="1616040" cy="2097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64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8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Group 10"/>
          <p:cNvGrpSpPr/>
          <p:nvPr/>
        </p:nvGrpSpPr>
        <p:grpSpPr>
          <a:xfrm>
            <a:off x="228600" y="1447920"/>
            <a:ext cx="2514600" cy="2971800"/>
            <a:chOff x="228600" y="1447920"/>
            <a:chExt cx="2514600" cy="2971800"/>
          </a:xfrm>
        </p:grpSpPr>
        <p:sp>
          <p:nvSpPr>
            <p:cNvPr id="67" name="Oval 15"/>
            <p:cNvSpPr/>
            <p:nvPr/>
          </p:nvSpPr>
          <p:spPr>
            <a:xfrm>
              <a:off x="228600" y="14479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603360" y="1974960"/>
              <a:ext cx="1841040" cy="184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Re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2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3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4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5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762120" y="1219320"/>
            <a:ext cx="785520" cy="3733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do long 2 seconds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11"/>
          <p:cNvGrpSpPr/>
          <p:nvPr/>
        </p:nvGrpSpPr>
        <p:grpSpPr>
          <a:xfrm>
            <a:off x="76320" y="1600200"/>
            <a:ext cx="2209680" cy="2971800"/>
            <a:chOff x="76320" y="1600200"/>
            <a:chExt cx="2209680" cy="2971800"/>
          </a:xfrm>
        </p:grpSpPr>
        <p:sp>
          <p:nvSpPr>
            <p:cNvPr id="79" name="Oval 15"/>
            <p:cNvSpPr/>
            <p:nvPr/>
          </p:nvSpPr>
          <p:spPr>
            <a:xfrm>
              <a:off x="76320" y="1600200"/>
              <a:ext cx="220968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5" descr="Preview image of file"/>
            <p:cNvPicPr/>
            <p:nvPr/>
          </p:nvPicPr>
          <p:blipFill>
            <a:blip r:embed="rId2"/>
            <a:stretch/>
          </p:blipFill>
          <p:spPr>
            <a:xfrm>
              <a:off x="451080" y="2054160"/>
              <a:ext cx="1463040" cy="2066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12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6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Group 14"/>
          <p:cNvGrpSpPr/>
          <p:nvPr/>
        </p:nvGrpSpPr>
        <p:grpSpPr>
          <a:xfrm>
            <a:off x="1219320" y="1371600"/>
            <a:ext cx="2361960" cy="3048120"/>
            <a:chOff x="1219320" y="1371600"/>
            <a:chExt cx="2361960" cy="3048120"/>
          </a:xfrm>
        </p:grpSpPr>
        <p:sp>
          <p:nvSpPr>
            <p:cNvPr id="89" name="Oval 15"/>
            <p:cNvSpPr/>
            <p:nvPr/>
          </p:nvSpPr>
          <p:spPr>
            <a:xfrm>
              <a:off x="1219320" y="1371600"/>
              <a:ext cx="236196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2" descr="C:\Users\Lee\Documents\Baby education resources\Music\solfege Mi image.gif"/>
            <p:cNvPicPr/>
            <p:nvPr/>
          </p:nvPicPr>
          <p:blipFill>
            <a:blip r:embed="rId1"/>
            <a:stretch/>
          </p:blipFill>
          <p:spPr>
            <a:xfrm>
              <a:off x="1596960" y="1822680"/>
              <a:ext cx="1609200" cy="2091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music abc mi_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64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0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228600" y="1447920"/>
            <a:ext cx="2514600" cy="2971800"/>
            <a:chOff x="228600" y="1447920"/>
            <a:chExt cx="2514600" cy="2971800"/>
          </a:xfrm>
        </p:grpSpPr>
        <p:sp>
          <p:nvSpPr>
            <p:cNvPr id="99" name="Oval 15"/>
            <p:cNvSpPr/>
            <p:nvPr/>
          </p:nvSpPr>
          <p:spPr>
            <a:xfrm>
              <a:off x="228600" y="14479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603360" y="1974960"/>
              <a:ext cx="1841040" cy="184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Re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2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1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685800" y="1219320"/>
            <a:ext cx="914400" cy="3733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76320" y="1600200"/>
            <a:ext cx="2209680" cy="2971800"/>
            <a:chOff x="76320" y="1600200"/>
            <a:chExt cx="2209680" cy="2971800"/>
          </a:xfrm>
        </p:grpSpPr>
        <p:sp>
          <p:nvSpPr>
            <p:cNvPr id="105" name="Oval 15"/>
            <p:cNvSpPr/>
            <p:nvPr/>
          </p:nvSpPr>
          <p:spPr>
            <a:xfrm>
              <a:off x="76320" y="1600200"/>
              <a:ext cx="220968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451080" y="2054160"/>
              <a:ext cx="1463040" cy="206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do long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2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4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212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1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7"/>
          <p:cNvSpPr/>
          <p:nvPr/>
        </p:nvSpPr>
        <p:spPr>
          <a:xfrm>
            <a:off x="685800" y="1219320"/>
            <a:ext cx="914400" cy="3733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76320" y="1600200"/>
            <a:ext cx="2209680" cy="2971800"/>
            <a:chOff x="76320" y="1600200"/>
            <a:chExt cx="2209680" cy="2971800"/>
          </a:xfrm>
        </p:grpSpPr>
        <p:sp>
          <p:nvSpPr>
            <p:cNvPr id="116" name="Oval 15"/>
            <p:cNvSpPr/>
            <p:nvPr/>
          </p:nvSpPr>
          <p:spPr>
            <a:xfrm>
              <a:off x="76320" y="1600200"/>
              <a:ext cx="220968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451080" y="2054160"/>
              <a:ext cx="1463040" cy="206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8" name="Do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8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05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0:09:54Z</dcterms:created>
  <dc:creator>halo</dc:creator>
  <dc:description/>
  <dc:language>en-US</dc:language>
  <cp:lastModifiedBy>Lee</cp:lastModifiedBy>
  <dcterms:modified xsi:type="dcterms:W3CDTF">2012-02-20T14:15:56Z</dcterms:modified>
  <cp:revision>148</cp:revision>
  <dc:subject/>
  <dc:title>Do</dc:title>
</cp:coreProperties>
</file>