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362C4-572B-41A6-B580-4A47D64626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CDD09-88A5-4FBE-9AC9-3AD4569D52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1689D-5646-44D6-8E45-AF7277106C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7A21B-D19F-4E59-8740-8D45B3128B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1168B-2BB9-4B88-A671-D0E6252686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AA946-1DE5-4923-B331-C49E57DC0F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49C52-C55A-4BEB-BCB0-AE7DD803B0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B6903-6377-44C0-92D2-37835C97C2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58CB3-DECF-4017-B0B6-E617252AC1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1EB97-D831-42CA-98A5-EEB9D1143E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ACEAA-B4CF-4EE4-8380-6B3EC48E7F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1BAFF-000D-4DFE-9A88-AD7D3BEB59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099E6-8E19-4505-AD2D-3BAB555DE0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E61F1-0689-4C00-8633-AC77A5ED98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14B77-6EF4-4497-B6D7-E2E453900A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BD2B1-31FC-45F0-918C-126DED5C01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1C02B-323C-4802-8A44-B7802972EB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6BD3-155F-4D3B-BCAD-AEB22DF26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BBFD-39D5-479A-A544-FB371DC83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DF5A-151D-481C-A92B-039976963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1EFB-7C7A-4B71-A590-556442A31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417C-FF89-4DD8-97FA-E840B7C8C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EF30-03FF-4031-A7B1-A65CD517E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CE53-66C5-48CC-B0C2-2B77CDC93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EB0C-BF6D-4120-B856-571F82E3E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B845-A073-4A19-B2B1-0FC92C4A0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79E8-A3A9-476F-8CE4-FB59924B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C17A-86D5-4674-BEA6-EB2ADD9C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45CC-1498-4B8A-A825-858FA4ED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F0180-A688-498F-870B-1D6AE312EE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10666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500" spc="-1" strike="noStrike">
                <a:solidFill>
                  <a:srgbClr val="000000"/>
                </a:solidFill>
                <a:latin typeface="Calibri"/>
              </a:rPr>
              <a:t>Hot cross buns</a:t>
            </a:r>
            <a:endParaRPr b="0" lang="en-US" sz="1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Preview image of file"/>
          <p:cNvPicPr/>
          <p:nvPr/>
        </p:nvPicPr>
        <p:blipFill>
          <a:blip r:embed="rId1"/>
          <a:stretch/>
        </p:blipFill>
        <p:spPr>
          <a:xfrm>
            <a:off x="1981080" y="304920"/>
            <a:ext cx="5043600" cy="510516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Do 1 second [v2]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050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Preview image of file"/>
          <p:cNvPicPr/>
          <p:nvPr/>
        </p:nvPicPr>
        <p:blipFill>
          <a:blip r:embed="rId1"/>
          <a:stretch/>
        </p:blipFill>
        <p:spPr>
          <a:xfrm>
            <a:off x="1981080" y="304920"/>
            <a:ext cx="5043600" cy="51051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do 2 seconds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2023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Preview image of file"/>
          <p:cNvPicPr/>
          <p:nvPr/>
        </p:nvPicPr>
        <p:blipFill>
          <a:blip r:embed="rId1"/>
          <a:stretch/>
        </p:blipFill>
        <p:spPr>
          <a:xfrm>
            <a:off x="2286000" y="228600"/>
            <a:ext cx="4267080" cy="42670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Re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Re 1 second [v2]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044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Preview image of file"/>
          <p:cNvPicPr/>
          <p:nvPr/>
        </p:nvPicPr>
        <p:blipFill>
          <a:blip r:embed="rId1"/>
          <a:stretch/>
        </p:blipFill>
        <p:spPr>
          <a:xfrm>
            <a:off x="2286000" y="228600"/>
            <a:ext cx="4267080" cy="42670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Re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Re 1 second [v2]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044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Preview image of file"/>
          <p:cNvPicPr/>
          <p:nvPr/>
        </p:nvPicPr>
        <p:blipFill>
          <a:blip r:embed="rId1"/>
          <a:stretch/>
        </p:blipFill>
        <p:spPr>
          <a:xfrm>
            <a:off x="2286000" y="228600"/>
            <a:ext cx="4267080" cy="42670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Re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Re 2 seconds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2020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C:\Users\Lee\Documents\Baby education resources\Music\solfege Mi image.gif"/>
          <p:cNvPicPr/>
          <p:nvPr/>
        </p:nvPicPr>
        <p:blipFill>
          <a:blip r:embed="rId1"/>
          <a:stretch/>
        </p:blipFill>
        <p:spPr>
          <a:xfrm>
            <a:off x="2209680" y="228600"/>
            <a:ext cx="4419720" cy="44197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music abc mi_2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2064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Preview image of file"/>
          <p:cNvPicPr/>
          <p:nvPr/>
        </p:nvPicPr>
        <p:blipFill>
          <a:blip r:embed="rId1"/>
          <a:stretch/>
        </p:blipFill>
        <p:spPr>
          <a:xfrm>
            <a:off x="2286000" y="228600"/>
            <a:ext cx="4267080" cy="42670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Re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music abc re_1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2090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Preview image of file"/>
          <p:cNvPicPr/>
          <p:nvPr/>
        </p:nvPicPr>
        <p:blipFill>
          <a:blip r:embed="rId1"/>
          <a:stretch/>
        </p:blipFill>
        <p:spPr>
          <a:xfrm>
            <a:off x="1981080" y="304920"/>
            <a:ext cx="5043600" cy="51051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do long 2 seconds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2212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0" y="1523880"/>
            <a:ext cx="907884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Users\Lee\Documents\Baby education resources\Music\solfege Mi image.gif"/>
          <p:cNvPicPr/>
          <p:nvPr/>
        </p:nvPicPr>
        <p:blipFill>
          <a:blip r:embed="rId1"/>
          <a:stretch/>
        </p:blipFill>
        <p:spPr>
          <a:xfrm>
            <a:off x="2209680" y="228600"/>
            <a:ext cx="4419720" cy="44197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music abc mi_2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64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Preview image of file"/>
          <p:cNvPicPr/>
          <p:nvPr/>
        </p:nvPicPr>
        <p:blipFill>
          <a:blip r:embed="rId1"/>
          <a:stretch/>
        </p:blipFill>
        <p:spPr>
          <a:xfrm>
            <a:off x="2286000" y="228600"/>
            <a:ext cx="4267080" cy="42670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Re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Re 2 seconds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20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Preview image of file"/>
          <p:cNvPicPr/>
          <p:nvPr/>
        </p:nvPicPr>
        <p:blipFill>
          <a:blip r:embed="rId1"/>
          <a:stretch/>
        </p:blipFill>
        <p:spPr>
          <a:xfrm>
            <a:off x="1981080" y="304920"/>
            <a:ext cx="5043600" cy="51051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do long 2 seconds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12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Users\Lee\Documents\Baby education resources\Music\solfege Mi image.gif"/>
          <p:cNvPicPr/>
          <p:nvPr/>
        </p:nvPicPr>
        <p:blipFill>
          <a:blip r:embed="rId1"/>
          <a:stretch/>
        </p:blipFill>
        <p:spPr>
          <a:xfrm>
            <a:off x="2209680" y="228600"/>
            <a:ext cx="4419720" cy="44197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music abc mi_2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064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Preview image of file"/>
          <p:cNvPicPr/>
          <p:nvPr/>
        </p:nvPicPr>
        <p:blipFill>
          <a:blip r:embed="rId1"/>
          <a:stretch/>
        </p:blipFill>
        <p:spPr>
          <a:xfrm>
            <a:off x="2286000" y="228600"/>
            <a:ext cx="4267080" cy="42670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Re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Re 2 seconds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020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Preview image of file"/>
          <p:cNvPicPr/>
          <p:nvPr/>
        </p:nvPicPr>
        <p:blipFill>
          <a:blip r:embed="rId1"/>
          <a:stretch/>
        </p:blipFill>
        <p:spPr>
          <a:xfrm>
            <a:off x="1981080" y="304920"/>
            <a:ext cx="5043600" cy="51051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do long 2 seconds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212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Preview image of file"/>
          <p:cNvPicPr/>
          <p:nvPr/>
        </p:nvPicPr>
        <p:blipFill>
          <a:blip r:embed="rId1"/>
          <a:stretch/>
        </p:blipFill>
        <p:spPr>
          <a:xfrm>
            <a:off x="1981080" y="304920"/>
            <a:ext cx="5043600" cy="510516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Do 1 second [v2]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050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0:09:54Z</dcterms:created>
  <dc:creator>halo</dc:creator>
  <dc:description/>
  <dc:language>en-US</dc:language>
  <cp:lastModifiedBy>Lee</cp:lastModifiedBy>
  <dcterms:modified xsi:type="dcterms:W3CDTF">2012-02-07T16:10:37Z</dcterms:modified>
  <cp:revision>137</cp:revision>
  <dc:subject/>
  <dc:title>Do</dc:title>
</cp:coreProperties>
</file>